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83D-D276-4573-A49A-AF90F640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766-9D0F-4322-AC10-932A189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951-1124-4D63-B6C7-F38A2AAA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68E-B5B3-4D48-9916-412549C7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69AF-98DA-4CD7-9943-86F3DA6F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C6C-7406-45C6-85D2-EFA817C7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1B2-C7CA-423D-B30F-CA32DE7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C1C8-3323-4042-B03F-255DAADF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890-A06C-4C09-9FED-7927C9EB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456-CF3E-4111-B523-065E506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C477-7537-41BD-B7B8-727E942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BEB-854A-4C0D-84D7-89B85206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4141-46B2-4DFE-994B-4BE4A0D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0D18-1129-4B01-A516-9AE6A59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8B37-1AF8-4709-B531-C25021B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04AA-F905-4076-A232-68C33EDF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7A3-3D0E-4A05-A24F-6A16B400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7CA-0045-43EB-ABE3-12E46F0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F71-86D2-44C3-9746-A27A45E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316-E96C-402F-A584-466DF4E5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AA7-1A34-4113-8183-FA45063D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5DB-A0D7-4B47-99C8-723F96C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513-AA13-4101-929F-0FBDEC9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F7B-84CF-4485-B1EC-DC46983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347-F191-4CE3-9EA5-FE452B759567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6AC-96CE-4982-B4F7-C66EC9FC0931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2a3d7a"/>
                </a:solidFill>
                <a:uFillTx/>
                <a:latin typeface="Times New Roman"/>
              </a:rPr>
              <a:t>Intermolecular forces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traction between one molecule and a neighbouring molecule</a:t>
            </a:r>
            <a:r>
              <a:rPr b="0" lang="ja-JP" sz="3200" spc="-1" strike="noStrike">
                <a:solidFill>
                  <a:srgbClr val="5b5249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br>
              <a:rPr sz="4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hbond.html#top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22096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oiling points of compounds with similar mass: ethanol, 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H, (78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°C),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methoxymethane, C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C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(-24.5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°C), propane, 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-44.5 °C), ethanal, C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HO (20.8 °C),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4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6" descr="http://www.chemguide.co.uk/atoms/bonding/olvether.GIF"/>
          <p:cNvPicPr/>
          <p:nvPr/>
        </p:nvPicPr>
        <p:blipFill>
          <a:blip r:embed="rId1"/>
          <a:stretch/>
        </p:blipFill>
        <p:spPr>
          <a:xfrm>
            <a:off x="1116000" y="4149720"/>
            <a:ext cx="648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solubility of ammonia in water  (89.9 g/100 mol of water at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°C) as hydrogen bonding occurs between ammonia and water molecu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trong forces between polymer molecu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thanoic acid forms dimers in non-polar solvents so it has a high melting and boiling poi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http://www.exploratorium.edu/ronh/bubbles/strider.gif"/>
          <p:cNvPicPr/>
          <p:nvPr/>
        </p:nvPicPr>
        <p:blipFill>
          <a:blip r:embed="rId1"/>
          <a:stretch/>
        </p:blipFill>
        <p:spPr>
          <a:xfrm>
            <a:off x="6095880" y="1212840"/>
            <a:ext cx="3048120" cy="2071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644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water!!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surface tens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m.p./b.p. (water is 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liquid over a wide range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emperatures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greater specific heat capacity than almost any other liquid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high heat of vaporiz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structure of ice (lower density than water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Ic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http://www.elmhurst.edu/~chm/vchembook/122Adensityice.html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7936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6" descr="http://www.elmhurst.edu/~chm/vchembook/images/122hbondwater.JPEG"/>
          <p:cNvPicPr/>
          <p:nvPr/>
        </p:nvPicPr>
        <p:blipFill>
          <a:blip r:embed="rId1"/>
          <a:stretch/>
        </p:blipFill>
        <p:spPr>
          <a:xfrm>
            <a:off x="395280" y="2209680"/>
            <a:ext cx="3643200" cy="421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www.elmhurst.edu/~chm/vchembook/images/122iceliquid.gif"/>
          <p:cNvPicPr/>
          <p:nvPr/>
        </p:nvPicPr>
        <p:blipFill>
          <a:blip r:embed="rId2"/>
          <a:stretch/>
        </p:blipFill>
        <p:spPr>
          <a:xfrm>
            <a:off x="4038480" y="2362320"/>
            <a:ext cx="48769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Ic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http://chemistry.umeche.maine.edu/CHY132/Ice2.html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4" descr="http://chemistry.umeche.maine.edu/CHY132/Ice2.jpg"/>
          <p:cNvPicPr/>
          <p:nvPr/>
        </p:nvPicPr>
        <p:blipFill>
          <a:blip r:embed="rId1"/>
          <a:stretch/>
        </p:blipFill>
        <p:spPr>
          <a:xfrm>
            <a:off x="1066680" y="1981080"/>
            <a:ext cx="7426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0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trong attraction betwee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highly positive hydrogen atom (part of a large dipole or polar bond i.e. bonded with N,O or F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the lone pair of a highly electronegative atom (usually N, O or F) of a neighbouring  molecule (=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intermolecular hydrogen bond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)  or the same molecule (=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intramolecular hydrogen bond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ＭＳ Ｐゴシック"/>
              </a:rPr>
              <a:t> as in protein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trongest intermolecular for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://users.rcn.com/jkimball.ma.ultranet/BiologyPages/H/Hbonds_water.gif"/>
          <p:cNvPicPr/>
          <p:nvPr/>
        </p:nvPicPr>
        <p:blipFill>
          <a:blip r:embed="rId1"/>
          <a:stretch/>
        </p:blipFill>
        <p:spPr>
          <a:xfrm>
            <a:off x="5105520" y="3733920"/>
            <a:ext cx="3641760" cy="291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</a:t>
            </a:r>
            <a:br>
              <a:rPr sz="5400"/>
            </a:br>
            <a:r>
              <a:rPr b="0" lang="en-US" sz="1200" spc="-1" strike="noStrike" u="sng">
                <a:solidFill>
                  <a:srgbClr val="2a3d7a"/>
                </a:solidFill>
                <a:uFillTx/>
                <a:latin typeface="Times New Roman"/>
              </a:rPr>
              <a:t>http://users.rcn.com/jkimball.ma.ultranet/BiologyPages/H/HydrogenBonds.html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210168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rength depends o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olarity of H atom which depends on difference in electronegativity between H and N or O or 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umber of hydrogen bon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st important fact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.g. water 2 per molecu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a3d7a"/>
                </a:solidFill>
                <a:uFillTx/>
                <a:latin typeface="Times New Roman"/>
              </a:rPr>
              <a:t>Intermolecular forces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15080" cy="43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eakest: London forces (typically around 3 kJ/mol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trongest: hydrogen bonding (typically around 30 kJ/mol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olecules which can make hydrogen bonds will also make London and dipole-dipole; dipoles will also have London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molecular for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2492280"/>
            <a:ext cx="8299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Van Der Waal’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London forc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ipole-dipol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ipole- induced polarity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Hydrogen bondi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London force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tween non-polar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stantaneous polarity caused by the random. movement of electrons within a non-polar molecule (=temporary dipole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stantaneous polarity induces polarity in neighbouring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ndon forces is the attraction as a result of the polarity in neighbouring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akest of the intermolecular forces and only acts over a short distanc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London forces</a:t>
            </a:r>
            <a:br>
              <a:rPr sz="5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vdw.html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0" y="2620800"/>
            <a:ext cx="45720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6" descr="http://www.chemguide.co.uk/atoms/bonding/induced1.GIF"/>
          <p:cNvPicPr/>
          <p:nvPr/>
        </p:nvPicPr>
        <p:blipFill>
          <a:blip r:embed="rId1"/>
          <a:stretch/>
        </p:blipFill>
        <p:spPr>
          <a:xfrm>
            <a:off x="2050920" y="2060640"/>
            <a:ext cx="4681800" cy="167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1" name="Rectangle 7"/>
          <p:cNvSpPr/>
          <p:nvPr/>
        </p:nvSpPr>
        <p:spPr>
          <a:xfrm>
            <a:off x="144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362320" y="2674800"/>
            <a:ext cx="442116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9" descr="http://www.chemguide.co.uk/atoms/bonding/lattice.GIF"/>
          <p:cNvPicPr/>
          <p:nvPr/>
        </p:nvPicPr>
        <p:blipFill>
          <a:blip r:embed="rId2"/>
          <a:stretch/>
        </p:blipFill>
        <p:spPr>
          <a:xfrm>
            <a:off x="1116000" y="4076640"/>
            <a:ext cx="6551640" cy="27813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Strength depends on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700280"/>
            <a:ext cx="815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umber of electrons/molecular siz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2637000"/>
          <a:ext cx="7488000" cy="3801960"/>
        </p:xfrm>
        <a:graphic>
          <a:graphicData uri="http://schemas.openxmlformats.org/drawingml/2006/table">
            <a:tbl>
              <a:tblPr/>
              <a:tblGrid>
                <a:gridCol w="1496880"/>
                <a:gridCol w="1498680"/>
                <a:gridCol w="1496880"/>
                <a:gridCol w="1498680"/>
                <a:gridCol w="14968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Inert gas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Boiling point (C)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Halogen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ngsana New"/>
                        </a:rPr>
                        <a:t>Boiling point (C)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He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269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F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8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Ne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24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Cl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34.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Ar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8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Br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58.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Kr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5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I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18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Xe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108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At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337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Rn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Arial"/>
                          <a:ea typeface="Angsana New"/>
                        </a:rPr>
                        <a:t>-6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8080"/>
            <a:ext cx="837072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Also depends on</a:t>
            </a:r>
            <a:br>
              <a:rPr sz="5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vdw.html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2101680"/>
            <a:ext cx="8227800" cy="7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Molecular shape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1028" descr="http://www.chemguide.co.uk/atoms/bonding/butanes.GIF"/>
          <p:cNvPicPr/>
          <p:nvPr/>
        </p:nvPicPr>
        <p:blipFill>
          <a:blip r:embed="rId1"/>
          <a:stretch/>
        </p:blipFill>
        <p:spPr>
          <a:xfrm>
            <a:off x="611280" y="3429000"/>
            <a:ext cx="84214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Dipole-dipole</a:t>
            </a:r>
            <a:br>
              <a:rPr sz="5400"/>
            </a:br>
            <a:r>
              <a:rPr b="0" lang="en-US" sz="1200" spc="-1" strike="noStrike" u="sng">
                <a:solidFill>
                  <a:srgbClr val="2a3d7a"/>
                </a:solidFill>
                <a:uFillTx/>
                <a:latin typeface="Times New Roman"/>
              </a:rPr>
              <a:t>http://www.teachmetuition.co.uk/Chemistry/Intermolecular/dipole.htm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08344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Intermolecular forces between polar molecul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-158760" y="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1806480"/>
            <a:ext cx="9144000" cy="32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9" descr="hcl van der waals"/>
          <p:cNvPicPr/>
          <p:nvPr/>
        </p:nvPicPr>
        <p:blipFill>
          <a:blip r:embed="rId1"/>
          <a:stretch/>
        </p:blipFill>
        <p:spPr>
          <a:xfrm>
            <a:off x="3635280" y="3068640"/>
            <a:ext cx="4238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8377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br>
              <a:rPr sz="5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hbond.html#top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101680"/>
            <a:ext cx="83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Boiling points of group 4 hydrid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40" y="24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276640" y="2416320"/>
            <a:ext cx="45925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7" descr="http://www.chemguide.co.uk/atoms/bonding/bptgp4hyd.GIF"/>
          <p:cNvPicPr/>
          <p:nvPr/>
        </p:nvPicPr>
        <p:blipFill>
          <a:blip r:embed="rId1"/>
          <a:stretch/>
        </p:blipFill>
        <p:spPr>
          <a:xfrm>
            <a:off x="1116000" y="3213000"/>
            <a:ext cx="69343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377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Hydrogen bonding: evidence</a:t>
            </a:r>
            <a:br>
              <a:rPr sz="4400"/>
            </a:b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http://www.chemguide.co.uk/atoms/bonding/hbond.html#top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7072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oiling points of group 5, 6 and 7 hydrid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4140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6" descr="http://www.chemguide.co.uk/atoms/bonding/bptgp567hyd.GIF"/>
          <p:cNvPicPr/>
          <p:nvPr/>
        </p:nvPicPr>
        <p:blipFill>
          <a:blip r:embed="rId1"/>
          <a:stretch/>
        </p:blipFill>
        <p:spPr>
          <a:xfrm>
            <a:off x="274680" y="2743200"/>
            <a:ext cx="8869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8:39:39Z</dcterms:created>
  <dc:creator>nvandecasteele</dc:creator>
  <dc:description/>
  <dc:language>en-US</dc:language>
  <cp:lastModifiedBy>Nico Van De Casteele</cp:lastModifiedBy>
  <dcterms:modified xsi:type="dcterms:W3CDTF">2016-01-25T01:36:37Z</dcterms:modified>
  <cp:revision>31</cp:revision>
  <dc:subject/>
  <dc:title>Intermolecular forces</dc:title>
</cp:coreProperties>
</file>